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29BA-BF52-4734-BE62-F9C62C3B0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2224-45E8-443E-8F9C-C2C0F2F8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8159-E02F-4D54-9855-E2A0FB9FA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7C5F-E4EA-4820-AA75-D75FCC9EA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0767-F6BF-4E56-857F-61D8081BE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106FC-3821-43CA-B2CE-B6FE4C98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BE2E-03BB-4013-A832-190AF0CD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E6C5-FD19-4FED-950E-BABC828D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D3AD-24B1-4D3B-89DA-E6E28AAF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0696B-D4ED-4192-84BC-5A495DD7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86C2-0302-4E3B-A525-8DD7915F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ED22-261C-4493-BA2C-EC1E88BD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5CBE-02CC-4A25-8274-7C5C1D26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D7DA0-8CE5-4ED5-AE99-E33345C8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34936-5281-4A9E-94AB-B24F34BE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D237-7E46-487B-AE05-B7BE71ADD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6A5C-C436-4621-993A-AC1D9FE9A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7271-5064-4072-A6B9-2F50C94D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2412-3EA3-4FE7-ADB2-B56523E2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E4BB-3D26-43AB-A365-370897A3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3336-2E6C-4CF3-A1D4-8B9F030B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04AC-C571-4B41-BD53-A8D229C4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A84F-F7AF-4AD1-A9EB-907BF192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DE48-81D0-4896-8FEE-4D889115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78EC-1C87-4EC3-BF73-68A8FE0BA75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7B12-2C6E-4A95-A4E0-28661CD3A4E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2637000"/>
            <a:ext cx="6400800" cy="1147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581000"/>
            <a:ext cx="60325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Урок математики 3 класс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Учитель: Матвеева С.Г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979640" y="2781360"/>
            <a:ext cx="51148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шение составных уравнений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Алгоритм</a:t>
            </a:r>
            <a:br>
              <a:rPr sz="3200"/>
            </a:b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решения составных уравнен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img1" descr=""/>
          <p:cNvPicPr/>
          <p:nvPr/>
        </p:nvPicPr>
        <p:blipFill>
          <a:blip r:embed="rId1"/>
          <a:stretch/>
        </p:blipFill>
        <p:spPr>
          <a:xfrm>
            <a:off x="1042920" y="2276640"/>
            <a:ext cx="6840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11:53:39Z</dcterms:created>
  <dc:creator>Admin</dc:creator>
  <dc:description/>
  <dc:language>en-US</dc:language>
  <cp:lastModifiedBy>Admin</cp:lastModifiedBy>
  <dcterms:modified xsi:type="dcterms:W3CDTF">2012-02-05T11:58:04Z</dcterms:modified>
  <cp:revision>3</cp:revision>
  <dc:subject/>
  <dc:title>Слайд 1</dc:title>
</cp:coreProperties>
</file>